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4.wmf" ContentType="image/x-wmf"/>
  <Override PartName="/ppt/media/image2.png" ContentType="image/png"/>
  <Override PartName="/ppt/media/image3.png" ContentType="image/png"/>
  <Override PartName="/ppt/media/image6.jpeg" ContentType="image/jpeg"/>
  <Override PartName="/ppt/media/image12.wmf" ContentType="image/x-wmf"/>
  <Override PartName="/ppt/media/image8.wmf" ContentType="image/x-wmf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52E-43D9-48D7-AF5C-CB88DBE2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516-DC4A-4C37-A2C0-BF176478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822-08DB-46AB-BD82-A547B7DD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585-18A8-4C4D-8BEE-8D37CB2C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E890-05FF-4F36-8DD9-74295958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24F8-6C12-4572-91E7-9C5F5F00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0249-FE92-4D32-8A0A-B8C95E30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F63F-E259-439A-9F0B-512CDEFE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50DD-1AE5-447B-BC3E-46EACBC1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2500-6C66-44BA-BE67-034DB2C2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5FFF-EE1D-41DF-9D14-53B604A9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7A8-1F2C-4E1E-99E6-08BD8070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A4BD-EA24-45D3-8674-DF72084F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49C2-6110-4158-B9D9-DA37FAEE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3E50-DFDD-4653-9D0E-B8595366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C1AD-71FE-4B79-BCCE-F5286A79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B55D-163A-49D6-A1DE-80067A10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612-DC0F-49BC-9418-9B2C192F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CBB-AA13-4815-B840-00CE9608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70C-AB63-45F1-8F9F-5C8A4600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DB3-EFC9-4851-BB8C-E3E21BF4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467-7ED6-426B-8CF1-33E3C6AE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36E-C620-4B70-B0A1-2519EA2F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551-BCBA-4585-9349-BD40E8E5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32F2-3A7B-4522-9AD6-CF391FEC9ECF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AD60-D82B-4F48-8249-3871758A32A9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566640" y="92160"/>
            <a:ext cx="7785360" cy="1882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57200" y="1928880"/>
            <a:ext cx="640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Elec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410082"/>
                </a:solidFill>
                <a:uFillTx/>
                <a:latin typeface="Book Antiqua"/>
                <a:hlinkClick r:id="rId3" action="ppaction://hlinksldjump"/>
              </a:rPr>
              <a:t>Aye</a:t>
            </a:r>
            <a:r>
              <a:rPr b="0" lang="en-A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410082"/>
                </a:solidFill>
                <a:uFillTx/>
                <a:latin typeface="Book Antiqua"/>
                <a:hlinkClick r:id="rId4" action="ppaction://hlinksldjump"/>
              </a:rPr>
              <a:t>By-law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410082"/>
                </a:solidFill>
                <a:uFillTx/>
                <a:latin typeface="Book Antiqua"/>
                <a:hlinkClick r:id="rId5" action="ppaction://hlinksldjump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410082"/>
                </a:solidFill>
                <a:uFillTx/>
                <a:latin typeface="Book Antiqua"/>
                <a:hlinkClick r:id="rId6" action="ppaction://hlinksldjump"/>
              </a:rPr>
              <a:t>Quee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410082"/>
                </a:solidFill>
                <a:uFillTx/>
                <a:latin typeface="Book Antiqua"/>
                <a:hlinkClick r:id="rId7" action="ppaction://hlinksldjump"/>
              </a:rPr>
              <a:t>Bil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410082"/>
                </a:solidFill>
                <a:uFillTx/>
                <a:latin typeface="Book Antiqua"/>
                <a:hlinkClick r:id="rId8" action="ppaction://hlinksldjump"/>
              </a:rPr>
              <a:t>Law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Book Antiqua"/>
              </a:rPr>
              <a:t>End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4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n election is when a person or government is chosen by voting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les and Laws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4" descr="C:\Program Files\Microsoft Office\Media\CntCD1\ClipArt1\j0186152.wmf"/>
          <p:cNvPicPr/>
          <p:nvPr/>
        </p:nvPicPr>
        <p:blipFill>
          <a:blip r:embed="rId2"/>
          <a:stretch/>
        </p:blipFill>
        <p:spPr>
          <a:xfrm>
            <a:off x="4143240" y="3000240"/>
            <a:ext cx="350064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4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481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ye is the word used for voting ‘yes’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les and Laws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4" descr="d:\Users\thomasr.STAWELL-PS\AppData\Local\Microsoft\Windows\Temporary Internet Files\Content.IE5\43U4ZKB8\MPj04424960000[1].jpg"/>
          <p:cNvPicPr/>
          <p:nvPr/>
        </p:nvPicPr>
        <p:blipFill>
          <a:blip r:embed="rId2"/>
          <a:stretch/>
        </p:blipFill>
        <p:spPr>
          <a:xfrm>
            <a:off x="5143680" y="2928960"/>
            <a:ext cx="30906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4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by-law is a local government rule or regul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les and Laws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4" descr="d:\Users\thomasr.STAWELL-PS\AppData\Local\Microsoft\Windows\Temporary Internet Files\Content.IE5\OE7ZDH5S\MCj04298110000[1].wmf"/>
          <p:cNvPicPr/>
          <p:nvPr/>
        </p:nvPicPr>
        <p:blipFill>
          <a:blip r:embed="rId2"/>
          <a:stretch/>
        </p:blipFill>
        <p:spPr>
          <a:xfrm>
            <a:off x="4572000" y="2786040"/>
            <a:ext cx="347040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4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481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vote is a formal expression of a choic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les and Laws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d:\Users\thomasr.STAWELL-PS\AppData\Local\Microsoft\Windows\Temporary Internet Files\Content.IE5\LQSWZ4PS\MPj03847260000[1].jpg"/>
          <p:cNvPicPr/>
          <p:nvPr/>
        </p:nvPicPr>
        <p:blipFill>
          <a:blip r:embed="rId2"/>
          <a:stretch/>
        </p:blipFill>
        <p:spPr>
          <a:xfrm>
            <a:off x="5286240" y="2857680"/>
            <a:ext cx="30560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4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481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Queen is australia’s head of state , since  1973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les and Laws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4" descr="d:\Users\thomasr.STAWELL-PS\AppData\Local\Microsoft\Windows\Temporary Internet Files\Content.IE5\LQSWZ4PS\MCj01161340000[1].wmf"/>
          <p:cNvPicPr/>
          <p:nvPr/>
        </p:nvPicPr>
        <p:blipFill>
          <a:blip r:embed="rId2"/>
          <a:stretch/>
        </p:blipFill>
        <p:spPr>
          <a:xfrm>
            <a:off x="5429160" y="2484360"/>
            <a:ext cx="25718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4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481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bill is a proposal for a new law or to modify an existing la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les and Laws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4" descr="C:\Program Files\Microsoft Office\Media\CntCD1\ClipArt2\j0231084.wmf"/>
          <p:cNvPicPr/>
          <p:nvPr/>
        </p:nvPicPr>
        <p:blipFill>
          <a:blip r:embed="rId2"/>
          <a:stretch/>
        </p:blipFill>
        <p:spPr>
          <a:xfrm>
            <a:off x="4357800" y="2786040"/>
            <a:ext cx="41590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4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481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law is a rule or set of rules recognised by society as bin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les and Laws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4" descr="d:\Users\thomasr.STAWELL-PS\AppData\Local\Microsoft\Windows\Temporary Internet Files\Content.IE5\OE7ZDH5S\MCj04380060000[1].wmf"/>
          <p:cNvPicPr/>
          <p:nvPr/>
        </p:nvPicPr>
        <p:blipFill>
          <a:blip r:embed="rId2"/>
          <a:stretch/>
        </p:blipFill>
        <p:spPr>
          <a:xfrm>
            <a:off x="4786200" y="2500200"/>
            <a:ext cx="37864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4" descr=""/>
          <p:cNvPicPr/>
          <p:nvPr/>
        </p:nvPicPr>
        <p:blipFill>
          <a:blip r:embed="rId1"/>
          <a:stretch/>
        </p:blipFill>
        <p:spPr>
          <a:xfrm>
            <a:off x="420840" y="-55440"/>
            <a:ext cx="824220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76120" y="14886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les and Laws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2" descr="d:\Users\thomasr.STAWELL-PS\AppData\Local\Microsoft\Windows\Temporary Internet Files\Content.IE5\L3S4EK1T\MCj04398410000[1].wmf"/>
          <p:cNvPicPr/>
          <p:nvPr/>
        </p:nvPicPr>
        <p:blipFill>
          <a:blip r:embed="rId2"/>
          <a:stretch/>
        </p:blipFill>
        <p:spPr>
          <a:xfrm>
            <a:off x="1000080" y="1785960"/>
            <a:ext cx="6215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22:31:17Z</dcterms:created>
  <dc:creator>Education</dc:creator>
  <dc:description/>
  <dc:language>en-US</dc:language>
  <cp:lastModifiedBy>Education</cp:lastModifiedBy>
  <dcterms:modified xsi:type="dcterms:W3CDTF">2009-10-27T23:37:50Z</dcterms:modified>
  <cp:revision>13</cp:revision>
  <dc:subject/>
  <dc:title>Rules and Laws glossary</dc:title>
</cp:coreProperties>
</file>